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D0B-8ADB-42F6-B52A-1292D1C0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CD1-ADDB-47E7-9C5F-564D8187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B71-C552-4FF6-B19A-A315E45B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D4B-9128-4B99-BC7F-E7B5FF1E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F8A7-E857-4493-B485-AC4E966F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2DF9-5D9E-4436-B0BA-4B108748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BEC-C63B-4794-B5C0-13125CB3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2CF-9C1F-4C4D-90A9-3EE31152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941-4F8B-49A3-B951-96751199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37E-5498-4C99-828A-3CEE6BC6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66B4-6E34-4FA8-93CD-96687459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C5D-BA48-4341-9ADE-E7B80A3D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D629-11C6-405B-8638-6E131CF82BE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Population Terminolog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rth Rat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number of births per 1000 people in the population per year in a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ath Rat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number of deaths per 1000 people in the population per year in a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migratio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migration of people out of a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migratio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migration of people into a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LEDC: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Less Economically Developed Countr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MEDC: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More Economically Developed Countr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Migration: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The permanent or semi-permanent movement of people to live and work in another area or countr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Natural Increase: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relationship between the birth rate and the death rate of a country or area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Population Growth: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difference between (BR + Immigration) and (DR+ Emigration)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3:16:20Z</dcterms:created>
  <dc:creator>Dell_02</dc:creator>
  <dc:description/>
  <dc:language>en-US</dc:language>
  <cp:lastModifiedBy>Dell_02</cp:lastModifiedBy>
  <dcterms:modified xsi:type="dcterms:W3CDTF">2011-01-25T03:19:24Z</dcterms:modified>
  <cp:revision>1</cp:revision>
  <dc:subject/>
  <dc:title>Population Terminology</dc:title>
</cp:coreProperties>
</file>